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661-980A-404C-8FDE-6A254F3D5B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060640" y="730080"/>
            <a:ext cx="2736720" cy="36496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34E-3609-4538-934F-03F3465331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999-D3C9-4A8A-A5E3-B5632F1A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C20-B5C2-4647-8F32-8D8AE1D8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7A0-90B5-4E2D-A2B5-1E697BC3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CC4-DDE1-4D78-AF48-7C104BFF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385-85C9-4FDC-B061-24966EF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07C-6580-4501-B2C7-079661C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2D0-D3F1-44B7-B2B0-123C7D58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066-32F2-422A-BEAD-75F50CE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053-2F06-410A-92BA-45B1BBB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DE3-1BEB-424E-99EB-82F70DB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8CC-7FCA-4074-A8C1-02B778E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B86-AA6C-4DA0-A072-7122943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9D4-FB35-4339-8BB7-AE843B4781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8280" y="347400"/>
            <a:ext cx="415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8280" y="1595520"/>
            <a:ext cx="46386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rijatelji dragi, svet je okro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in nekam hitro se vr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maj človek okrog se obr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e štiridesetkrat zako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akor nihče, tako niti j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nisem imuna na to, kar hoče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to vas vabim, da skup‘ proslav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kup‘ eno dobro fešto nar‘dim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Za vsakogar se našel bo krožnik dobro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pa kak kozarček in kapljica not‘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Verjemite, da mi bo v največje ves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da z vami bom skupa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To so moje žel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saj – kdo bi lahko si mogel kaj več želet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ndalus"/>
                <a:ea typeface="Andalus"/>
              </a:rPr>
              <a:t>Kot v najboljši družbi svoje žlahte se dobro imet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Pridite torej </a:t>
            </a:r>
            <a:r>
              <a:rPr b="1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25. oktobra ob 17.00 uri na Kastelčevo domačijo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z veseljem vas pričakuj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</a:t>
            </a: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Melita Žlaj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5:10:24Z</cp:lastPrinted>
  <dcterms:modified xsi:type="dcterms:W3CDTF">2014-10-02T05:18:05Z</dcterms:modified>
  <cp:revision>60</cp:revision>
  <dc:subject/>
  <dc:title>TITLE</dc:title>
</cp:coreProperties>
</file>